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2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29" name="PlaceHolder 2"/>
          <p:cNvSpPr>
            <a:spLocks noGrp="1"/>
          </p:cNvSpPr>
          <p:nvPr>
            <p:ph type="dt" idx="21"/>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3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3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2" name="PlaceHolder 5"/>
          <p:cNvSpPr>
            <a:spLocks noGrp="1"/>
          </p:cNvSpPr>
          <p:nvPr>
            <p:ph type="ftr" idx="22"/>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33" name="PlaceHolder 6"/>
          <p:cNvSpPr>
            <a:spLocks noGrp="1"/>
          </p:cNvSpPr>
          <p:nvPr>
            <p:ph type="sldNum" idx="23"/>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04840" y="696960"/>
            <a:ext cx="4648320" cy="3486240"/>
          </a:xfrm>
          <a:prstGeom prst="rect">
            <a:avLst/>
          </a:prstGeom>
          <a:ln w="0">
            <a:noFill/>
          </a:ln>
        </p:spPr>
      </p:sp>
      <p:sp>
        <p:nvSpPr>
          <p:cNvPr id="1111"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lnSpc>
                <a:spcPct val="100000"/>
              </a:lnSpc>
              <a:buClr>
                <a:srgbClr val="000000"/>
              </a:buClr>
              <a:buSzPct val="153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February 2016.</a:t>
            </a:r>
            <a:endParaRPr b="0" lang="en-US" sz="1200" spc="-1" strike="noStrike">
              <a:solidFill>
                <a:srgbClr val="000000"/>
              </a:solidFill>
              <a:latin typeface="Arial"/>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vering on the promise by the Common Core State Standards of higher student achievement for all students requires significant shifts in practice. The key area in ELA/Literacy to focus on in the classroom in 2012-13 is ensuring that students think about the text and the evidence in the text that is necessary for inferring meaning and achieving overall comprehension.</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ssion, we’ll review the shifts in practice required by the Common Core State Standards in ELA/Literacy and dive deeply into what it means to recognize and create excellent text dependent questions for use in the classroom.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ing questions in many reading programs were designed for a different set of standards. This session is designed to give you the information to recognize high quality text-dependent questions aligned to the expectations of the CCSS, where they exist, and create quality questions, where they do not.</a:t>
            </a:r>
            <a:endParaRPr b="0" lang="en-US" sz="1200" spc="-1" strike="noStrike">
              <a:solidFill>
                <a:srgbClr val="000000"/>
              </a:solidFill>
              <a:latin typeface="Arial"/>
            </a:endParaRPr>
          </a:p>
        </p:txBody>
      </p:sp>
      <p:sp>
        <p:nvSpPr>
          <p:cNvPr id="1112"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04840" y="696960"/>
            <a:ext cx="4648320" cy="3486240"/>
          </a:xfrm>
          <a:prstGeom prst="rect">
            <a:avLst/>
          </a:prstGeom>
          <a:ln w="0">
            <a:noFill/>
          </a:ln>
        </p:spPr>
      </p:sp>
      <p:sp>
        <p:nvSpPr>
          <p:cNvPr id="1135" name="PlaceHolder 2"/>
          <p:cNvSpPr>
            <a:spLocks noGrp="1"/>
          </p:cNvSpPr>
          <p:nvPr>
            <p:ph type="body"/>
          </p:nvPr>
        </p:nvSpPr>
        <p:spPr>
          <a:xfrm>
            <a:off x="685800" y="4416120"/>
            <a:ext cx="5486400" cy="47552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eading a text, clarify your own understanding regarding the core understanding, themes, and key ideas, so it  can serve as your guidepost for creating questions.  A coherent sequences of text-dependent questions will lead students towards understanding these ideas for themselve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literature the core understandings and big ideas can focus on the theme, interactions of characters, events in the story, important events, or any other features that are central.</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informational texts the core understandings and big ideas can be closely aligned to the important ideas, the author’s purpose, claims, or argument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Shape 16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04840" y="696960"/>
            <a:ext cx="4648320" cy="3486240"/>
          </a:xfrm>
          <a:prstGeom prst="rect">
            <a:avLst/>
          </a:prstGeom>
          <a:ln w="0">
            <a:noFill/>
          </a:ln>
        </p:spPr>
      </p:sp>
      <p:sp>
        <p:nvSpPr>
          <p:cNvPr id="1138"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from Because of Winn Dixie, by Kate DiCamillo</a:t>
            </a:r>
            <a:endParaRPr b="0" lang="en-US" sz="1800" spc="-1" strike="noStrike">
              <a:solidFill>
                <a:srgbClr val="000000"/>
              </a:solidFill>
              <a:latin typeface="Arial"/>
            </a:endParaRPr>
          </a:p>
        </p:txBody>
      </p:sp>
      <p:sp>
        <p:nvSpPr>
          <p:cNvPr id="1139" name="Shape 16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04840" y="696960"/>
            <a:ext cx="4648320" cy="3486240"/>
          </a:xfrm>
          <a:prstGeom prst="rect">
            <a:avLst/>
          </a:prstGeom>
          <a:ln w="0">
            <a:noFill/>
          </a:ln>
        </p:spPr>
      </p:sp>
      <p:sp>
        <p:nvSpPr>
          <p:cNvPr id="1141" name="PlaceHolder 2"/>
          <p:cNvSpPr>
            <a:spLocks noGrp="1"/>
          </p:cNvSpPr>
          <p:nvPr>
            <p:ph type="body"/>
          </p:nvPr>
        </p:nvSpPr>
        <p:spPr>
          <a:xfrm>
            <a:off x="685800" y="4416120"/>
            <a:ext cx="5486400" cy="4182840"/>
          </a:xfrm>
          <a:prstGeom prst="rect">
            <a:avLst/>
          </a:prstGeom>
          <a:noFill/>
          <a:ln w="0">
            <a:noFill/>
          </a:ln>
        </p:spPr>
        <p:txBody>
          <a:bodyPr anchor="t">
            <a:noAutofit/>
          </a:bodyPr>
          <a:p>
            <a:pPr marL="457200" indent="-317520">
              <a:buClr>
                <a:srgbClr val="000000"/>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teaching your students the meaning of a word that is the member of a larger family of related words, you are giving them the power to learn many words from a focus on one. </a:t>
            </a:r>
            <a:endParaRPr b="0" lang="en-US" sz="18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317520">
              <a:buClr>
                <a:srgbClr val="000000"/>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tle in reading is better documented than the links between word knowledge and successful reading and learning outcomes. Concrete words are mastered much more quickly than are abstract words. Academic words are far more likely to be abstract and will need as much attention as you can provide. These words are also the ones that students are likely to encounter over and over again. </a:t>
            </a:r>
            <a:endParaRPr b="0" lang="en-US" sz="1800" spc="-1" strike="noStrike">
              <a:solidFill>
                <a:srgbClr val="000000"/>
              </a:solidFill>
              <a:latin typeface="Arial"/>
            </a:endParaRPr>
          </a:p>
        </p:txBody>
      </p:sp>
      <p:sp>
        <p:nvSpPr>
          <p:cNvPr id="1142" name="Shape 17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04840" y="696960"/>
            <a:ext cx="4648320" cy="3486240"/>
          </a:xfrm>
          <a:prstGeom prst="rect">
            <a:avLst/>
          </a:prstGeom>
          <a:ln w="0">
            <a:noFill/>
          </a:ln>
        </p:spPr>
      </p:sp>
      <p:sp>
        <p:nvSpPr>
          <p:cNvPr id="1144"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example provides the definition since there aren’t enough contextual clues provided in the text for student to figure it out on their own.</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example asks the students to figure out the word in con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examples use the word knowledge to ask pointed questions about the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Shape 18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04840" y="696960"/>
            <a:ext cx="4648320" cy="3486240"/>
          </a:xfrm>
          <a:prstGeom prst="rect">
            <a:avLst/>
          </a:prstGeom>
          <a:ln w="0">
            <a:noFill/>
          </a:ln>
        </p:spPr>
      </p:sp>
      <p:sp>
        <p:nvSpPr>
          <p:cNvPr id="1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Shape 18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04840" y="696960"/>
            <a:ext cx="4648320" cy="3486240"/>
          </a:xfrm>
          <a:prstGeom prst="rect">
            <a:avLst/>
          </a:prstGeom>
          <a:ln w="0">
            <a:noFill/>
          </a:ln>
        </p:spPr>
      </p:sp>
      <p:sp>
        <p:nvSpPr>
          <p:cNvPr id="115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structure can be addressed through text dependent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examples in the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hape 20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04840" y="696960"/>
            <a:ext cx="4648320" cy="3486240"/>
          </a:xfrm>
          <a:prstGeom prst="rect">
            <a:avLst/>
          </a:prstGeom>
          <a:ln w="0">
            <a:noFill/>
          </a:ln>
        </p:spPr>
      </p:sp>
      <p:sp>
        <p:nvSpPr>
          <p:cNvPr id="1153" name="PlaceHolder 2"/>
          <p:cNvSpPr>
            <a:spLocks noGrp="1"/>
          </p:cNvSpPr>
          <p:nvPr>
            <p:ph type="body"/>
          </p:nvPr>
        </p:nvSpPr>
        <p:spPr>
          <a:xfrm>
            <a:off x="685800" y="4416120"/>
            <a:ext cx="5486400" cy="4182840"/>
          </a:xfrm>
          <a:prstGeom prst="rect">
            <a:avLst/>
          </a:prstGeom>
          <a:noFill/>
          <a:ln w="0">
            <a:noFill/>
          </a:ln>
        </p:spPr>
        <p:txBody>
          <a:bodyPr anchor="t">
            <a:noAutofit/>
          </a:bodyPr>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xt itself is the driver for what strategies would logically be employed to comprehend it fully. Text-dependent questions and tasks need to be created in such a way that they activate the reading strategies that would be useful and appropriate to solve some comprehension challenge a specific text presents.  Reading strategies are taught in service to the reader's comprehension of the text.</a:t>
            </a:r>
            <a:endParaRPr b="0" lang="en-US" sz="12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the major reading strategies are contained in the Reading Standards 2 -9 for both literature and informational text. Other high value strategies such as, comprehension monitoring and rereading for understanding, are activated throughout the process of answering the questions because the demand for text evidence pushed the reader back to the text and constantly asks for a check on understanding. </a:t>
            </a:r>
            <a:endParaRPr b="0" lang="en-US" sz="12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articipants are getting stuck on this point - since it represents such a shift from current practice - it may be useful to take the anchor standards for reading and either name each one for the group or ask people to work in small groups to do it for themselves. This should help reassure teachers that by creating questions that are aligned with the standards they will get frequent opportunities to have students practice using reading strategies and can build in their customary teaching and modeling of strategies into those same organic opportunities.)</a:t>
            </a:r>
            <a:endParaRPr b="0" lang="en-US" sz="1200" spc="-1" strike="noStrike">
              <a:solidFill>
                <a:srgbClr val="000000"/>
              </a:solidFill>
              <a:latin typeface="Arial"/>
            </a:endParaRPr>
          </a:p>
        </p:txBody>
      </p:sp>
      <p:sp>
        <p:nvSpPr>
          <p:cNvPr id="1154" name="Shape 2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04840" y="696960"/>
            <a:ext cx="4648320" cy="3486240"/>
          </a:xfrm>
          <a:prstGeom prst="rect">
            <a:avLst/>
          </a:prstGeom>
          <a:ln w="0">
            <a:noFill/>
          </a:ln>
        </p:spPr>
      </p:sp>
      <p:sp>
        <p:nvSpPr>
          <p:cNvPr id="115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 – use of evidence, and Standard 10 – appropriately complex text and the range of text called for at each grade level - should accompany the other Standards. They are always present on the K-12 continuum, but they themselves are not standards that drive question- making. The search for text evidence should activate key strategies such as re-reading and monitoring for comprehension, but more specific strategies are present when Standards 2-9 are present in the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text-dependent questions will always keep Reading Standards 2-9 in play.  Which Standards in particular are activated depends on the text at h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hape 22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04840" y="696960"/>
            <a:ext cx="4648320" cy="3486240"/>
          </a:xfrm>
          <a:prstGeom prst="rect">
            <a:avLst/>
          </a:prstGeom>
          <a:ln w="0">
            <a:noFill/>
          </a:ln>
        </p:spPr>
      </p:sp>
      <p:sp>
        <p:nvSpPr>
          <p:cNvPr id="115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aligned culminating tasks must be text-centered since they take more time than any other individual part of the work with the tex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done well, the sequence of questions, and students' notes from discussion and written answers to them, should provide lots of raw material for developing a solid response to a culminating writing assignment or other appropriate ending activity. This is another way text-dependent questions provide scaffolding that will help students build their capacity to approach complex and challenging text independentl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hape 23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04840" y="696960"/>
            <a:ext cx="4648320" cy="3486240"/>
          </a:xfrm>
          <a:prstGeom prst="rect">
            <a:avLst/>
          </a:prstGeom>
          <a:ln w="0">
            <a:noFill/>
          </a:ln>
        </p:spPr>
      </p:sp>
      <p:sp>
        <p:nvSpPr>
          <p:cNvPr id="1114"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fts are a high-level summary of the biggest changes signified by the adoption of the CCSS.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present the most significant shifts for curriculum materials, instruction, student learning, and thinking about assessment. Taken all together, they should lead to desired student outcomes. Communicate the shifts to everyone who will listen! Everyone working in your school and district should have a solid understanding of the shifts required in both ELA/Literacy and Mathematics. They are a great starting point for learning about and understanding the CCSS.</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est any message or effort regarding the CCSS against these touchstones. From state, district, school, or classroom – how does X support the ideas of the shifts?</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meant to be succinct and easy to remember.</a:t>
            </a:r>
            <a:endParaRPr b="0" lang="en-US" sz="1200" spc="-1" strike="noStrike">
              <a:solidFill>
                <a:srgbClr val="000000"/>
              </a:solidFill>
              <a:latin typeface="Arial"/>
            </a:endParaRPr>
          </a:p>
        </p:txBody>
      </p:sp>
      <p:sp>
        <p:nvSpPr>
          <p:cNvPr id="1115"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04840" y="696960"/>
            <a:ext cx="4648320" cy="3486240"/>
          </a:xfrm>
          <a:prstGeom prst="rect">
            <a:avLst/>
          </a:prstGeom>
          <a:ln w="0">
            <a:noFill/>
          </a:ln>
        </p:spPr>
      </p:sp>
      <p:sp>
        <p:nvSpPr>
          <p:cNvPr id="1162" name="PlaceHolder 2"/>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ety of approaches is best: small groups working together question by question, pair/shares, tackling some independently through a written response, whole class discussions... These are all powerful ways to work with students on this kind of evidence gathering and careful read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on Core Standards exist for all students. We must create new and powerful ways to allow this access to all stud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04840" y="696960"/>
            <a:ext cx="4648320" cy="3486240"/>
          </a:xfrm>
          <a:prstGeom prst="rect">
            <a:avLst/>
          </a:prstGeom>
          <a:ln w="0">
            <a:noFill/>
          </a:ln>
        </p:spPr>
      </p:sp>
      <p:sp>
        <p:nvSpPr>
          <p:cNvPr id="1117"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text-dependent questions are key to building knowledge from content-rich text.  Text-dependent questions will point students toward parts of the text most important to pay attention to.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use questions to highlight and scaffold key knowledge and information from texts, and provide the necessary practice with complex text.</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ost clearly – and as highlighted here on this slide – text-dependent questions are in direct service of the 2</a:t>
            </a:r>
            <a:r>
              <a:rPr b="0" lang="en-US" sz="1200" spc="-1" strike="noStrike" baseline="30000">
                <a:solidFill>
                  <a:srgbClr val="000000"/>
                </a:solidFill>
                <a:latin typeface="Arial"/>
              </a:rPr>
              <a:t>nd</a:t>
            </a:r>
            <a:r>
              <a:rPr b="0" lang="en-US" sz="1200" spc="-1" strike="noStrike">
                <a:solidFill>
                  <a:srgbClr val="000000"/>
                </a:solidFill>
                <a:latin typeface="Arial"/>
              </a:rPr>
              <a:t> shift toward reading and writing grounded in evidence from the text.  Answering text-dependent questions requires students to examine and use evidence from the text.</a:t>
            </a:r>
            <a:endParaRPr b="0" lang="en-US" sz="1200" spc="-1" strike="noStrike">
              <a:solidFill>
                <a:srgbClr val="000000"/>
              </a:solidFill>
              <a:latin typeface="Arial"/>
            </a:endParaRPr>
          </a:p>
        </p:txBody>
      </p:sp>
      <p:sp>
        <p:nvSpPr>
          <p:cNvPr id="1118" name="Shape 10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04840" y="696960"/>
            <a:ext cx="4648320" cy="3486240"/>
          </a:xfrm>
          <a:prstGeom prst="rect">
            <a:avLst/>
          </a:prstGeom>
          <a:ln w="0">
            <a:noFill/>
          </a:ln>
        </p:spPr>
      </p:sp>
      <p:sp>
        <p:nvSpPr>
          <p:cNvPr id="1120"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baseline="30000">
                <a:solidFill>
                  <a:srgbClr val="000000"/>
                </a:solidFill>
                <a:latin typeface="Arial"/>
              </a:rPr>
              <a:t>st</a:t>
            </a:r>
            <a:r>
              <a:rPr b="0" lang="en-US" sz="1200" spc="-1" strike="noStrike">
                <a:solidFill>
                  <a:srgbClr val="000000"/>
                </a:solidFill>
                <a:latin typeface="Arial"/>
              </a:rPr>
              <a:t> bullet – The shifts require experience within the text – building knowledge primarily through reading, using evidence that can only be found in text, and exposure to academic vocabulary found in those very text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baseline="30000">
                <a:solidFill>
                  <a:srgbClr val="000000"/>
                </a:solidFill>
                <a:latin typeface="Arial"/>
              </a:rPr>
              <a:t>nd</a:t>
            </a:r>
            <a:r>
              <a:rPr b="0" lang="en-US" sz="1200" spc="-1" strike="noStrike">
                <a:solidFill>
                  <a:srgbClr val="000000"/>
                </a:solidFill>
                <a:latin typeface="Arial"/>
              </a:rPr>
              <a:t> bullet – For example, reading about tornadoes, then asking students to talk about a time when they were in a tornado only allows the students who have had this experience to engage. The expectations outlined by the CCSS are requirements for ALL students. By grounding the discussion in the text itself, all students are given an equal opportunity to engage.  The </a:t>
            </a:r>
            <a:r>
              <a:rPr b="0" i="1" lang="en-US" sz="1200" spc="-1" strike="noStrike">
                <a:solidFill>
                  <a:srgbClr val="000000"/>
                </a:solidFill>
                <a:latin typeface="Arial"/>
              </a:rPr>
              <a:t>text</a:t>
            </a:r>
            <a:r>
              <a:rPr b="0" lang="en-US" sz="1200" spc="-1" strike="noStrike">
                <a:solidFill>
                  <a:srgbClr val="000000"/>
                </a:solidFill>
                <a:latin typeface="Arial"/>
              </a:rPr>
              <a:t> becomes a shared experience in learning about any topic.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baseline="30000">
                <a:solidFill>
                  <a:srgbClr val="000000"/>
                </a:solidFill>
                <a:latin typeface="Arial"/>
              </a:rPr>
              <a:t>rd</a:t>
            </a:r>
            <a:r>
              <a:rPr b="0" lang="en-US" sz="1200" spc="-1" strike="noStrike">
                <a:solidFill>
                  <a:srgbClr val="000000"/>
                </a:solidFill>
                <a:latin typeface="Arial"/>
              </a:rPr>
              <a:t> bullet – As texts and reading becomes challenging – it’s easier for students to disengage with the text and go to what they know (or think they know, based on their experience.)  Requiring students to persevere through difficult text builds critical reading muscles.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baseline="30000">
                <a:solidFill>
                  <a:srgbClr val="000000"/>
                </a:solidFill>
                <a:latin typeface="Arial"/>
              </a:rPr>
              <a:t>th</a:t>
            </a:r>
            <a:r>
              <a:rPr b="0" lang="en-US" sz="1200" spc="-1" strike="noStrike">
                <a:solidFill>
                  <a:srgbClr val="000000"/>
                </a:solidFill>
                <a:latin typeface="Arial"/>
              </a:rPr>
              <a:t> bullet – Those reading muscles are what students will need to be successful in college and career – reading difficult subject matter or technical job-related information without anybody to support them is the critical skill necessary for success. </a:t>
            </a:r>
            <a:endParaRPr b="0" lang="en-US" sz="1200" spc="-1" strike="noStrike">
              <a:solidFill>
                <a:srgbClr val="000000"/>
              </a:solidFill>
              <a:latin typeface="Arial"/>
            </a:endParaRPr>
          </a:p>
        </p:txBody>
      </p:sp>
      <p:sp>
        <p:nvSpPr>
          <p:cNvPr id="1121" name="Shape 11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04840" y="696960"/>
            <a:ext cx="4648320" cy="3486240"/>
          </a:xfrm>
          <a:prstGeom prst="rect">
            <a:avLst/>
          </a:prstGeom>
          <a:ln w="0">
            <a:noFill/>
          </a:ln>
        </p:spPr>
      </p:sp>
      <p:sp>
        <p:nvSpPr>
          <p:cNvPr id="1123"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level referring to Bloom’s Taxonomy or Webb’s Depth of Knowledge; good TDQs can be very complex and inferential.</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are meant to point towards the most salient aspects of the text; questions are not meant to test the skill or strategy of the week.</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are not just questions; they can be powerful. Along with high quality complex text – they will drive the CCSS in the classroom</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what TDQ’ are not.  The next slide takes a closer look at what TDQ’s are.</a:t>
            </a:r>
            <a:endParaRPr b="0" lang="en-US" sz="1200" spc="-1" strike="noStrike">
              <a:solidFill>
                <a:srgbClr val="000000"/>
              </a:solidFill>
              <a:latin typeface="Arial"/>
            </a:endParaRPr>
          </a:p>
        </p:txBody>
      </p:sp>
      <p:sp>
        <p:nvSpPr>
          <p:cNvPr id="1124" name="Shape 12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04840" y="696960"/>
            <a:ext cx="4648320" cy="3486240"/>
          </a:xfrm>
          <a:prstGeom prst="rect">
            <a:avLst/>
          </a:prstGeom>
          <a:ln w="0">
            <a:noFill/>
          </a:ln>
        </p:spPr>
      </p:sp>
      <p:sp>
        <p:nvSpPr>
          <p:cNvPr id="1126"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should not </a:t>
            </a:r>
            <a:r>
              <a:rPr b="0" i="1" lang="en-US" sz="1200" spc="-1" strike="noStrike">
                <a:solidFill>
                  <a:srgbClr val="000000"/>
                </a:solidFill>
                <a:latin typeface="Arial"/>
              </a:rPr>
              <a:t>require</a:t>
            </a:r>
            <a:r>
              <a:rPr b="0" lang="en-US" sz="1200" spc="-1" strike="noStrike">
                <a:solidFill>
                  <a:srgbClr val="000000"/>
                </a:solidFill>
                <a:latin typeface="Arial"/>
              </a:rPr>
              <a:t> background knowledge (stores of background knowledge can be added to by collecting the evidence from the text to further build knowledge, or can be tapped into to make meaning of the text.)</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that involve analysis, synthesis, evaluation actually point towards the most difficult parts of text.  Literal question do not.</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will drive the CCSS in the classroom if questions are asked about words, sentences, paragraphs, big ideas, themes, relationships, etc.</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are an opportunity to address the academic (tier two) vocabulary and syntax that are features of complex text – the features that make text difficult for student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at good questions actually make students stronger and more capable reader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Shape 12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04840" y="696960"/>
            <a:ext cx="4648320" cy="3486240"/>
          </a:xfrm>
          <a:prstGeom prst="rect">
            <a:avLst/>
          </a:prstGeom>
          <a:ln w="0">
            <a:noFill/>
          </a:ln>
        </p:spPr>
      </p:sp>
      <p:sp>
        <p:nvSpPr>
          <p:cNvPr id="112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dependent questions require students to pay attention to the text at hand and to draw evidence from that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is look like in the classroom?</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insist that classroom experiences stay deeply connected to the text on the page and that students develop habits for making evidentiary argument both in conversation, as well as in writing, to assess comprehension of a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have rich and rigorous conversations and develop writing that is dependent on a common text. </a:t>
            </a:r>
            <a:endParaRPr b="0" lang="en-US" sz="1800" spc="-1" strike="noStrike">
              <a:solidFill>
                <a:srgbClr val="000000"/>
              </a:solidFill>
              <a:latin typeface="Arial"/>
            </a:endParaRPr>
          </a:p>
        </p:txBody>
      </p:sp>
      <p:sp>
        <p:nvSpPr>
          <p:cNvPr id="1130"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04840" y="696960"/>
            <a:ext cx="4648320" cy="3486240"/>
          </a:xfrm>
          <a:prstGeom prst="rect">
            <a:avLst/>
          </a:prstGeom>
          <a:ln w="0">
            <a:noFill/>
          </a:ln>
        </p:spPr>
      </p:sp>
      <p:sp>
        <p:nvSpPr>
          <p:cNvPr id="1132" name="PlaceHolder 2"/>
          <p:cNvSpPr>
            <a:spLocks noGrp="1"/>
          </p:cNvSpPr>
          <p:nvPr>
            <p:ph type="body"/>
          </p:nvPr>
        </p:nvSpPr>
        <p:spPr>
          <a:xfrm>
            <a:off x="685800" y="4416120"/>
            <a:ext cx="5486400" cy="585252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not a formula – not every text will require the same process.  These are guideline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s that directly address difficult sections of the text help with breaking down complexity.  Help student to extract and create meaning where they otherwise wouldn'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questions is enough?  It varies from text to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alignment to the standards" last, but use the language of the standards in the questions as much as possible.</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he next few slides we’ll see examples of text-dependent questions that address various features of the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 to the handout – “Long Guide to Creating Text Dependent Questions”</a:t>
            </a:r>
            <a:endParaRPr b="0" lang="en-US" sz="1800" spc="-1" strike="noStrike">
              <a:solidFill>
                <a:srgbClr val="000000"/>
              </a:solidFill>
              <a:latin typeface="Arial"/>
            </a:endParaRPr>
          </a:p>
        </p:txBody>
      </p:sp>
      <p:sp>
        <p:nvSpPr>
          <p:cNvPr id="1133" name="Shape 15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CD079F-F192-417A-BC03-1F7338245C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087C02FC-CB6A-4D0C-93A4-52597247A90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E4DA9391-A82E-4991-AEFD-5CC56DCBC33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5355D490-871F-4A5A-BDF3-089B90FF1E6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2D8ED76C-74C6-4E44-82D6-6DF68CAE115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57F97630-98FE-4E16-9248-35C97AB195A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39581046-6BE6-4C24-A5D7-9D6E2BC5632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2AD9FD4F-9572-45A4-8725-B50EE1CD619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AECA4609-EEA2-41D5-8BD5-43A22869251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6562DE4C-2CC8-4E75-A1D8-EBF71334798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67C6710C-8511-4E6B-AE0E-0286ED5DDDE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CCA270B-C823-4D8D-91D1-2296A609E8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3C4E47D9-BF21-49F1-8362-2E8441D5DA2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563F8C2A-8216-4A6F-97F2-E759FE232B5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11353DF7-A173-42B9-AD77-2C3E7821DFA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6F851861-8827-426B-83BB-6D7CDFCF742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385E40BE-E5C6-4072-BB09-BB6975DE2C7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BAC5E6BB-B3BB-492A-9CCF-878D440A393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08814783-AA3C-494E-A46E-61AA874E0B3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101AB667-006A-423B-B965-532A0F14239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C3505F62-F27B-41C4-9DA8-5153BA23749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8D352CCE-1052-4B96-ABC7-BC2AF65DF2D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17EA37D5-2D13-4670-9FFF-9703F3654A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7E78F70C-9AE4-41FD-B3B4-E137E452362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DB6C7CE7-37F9-4736-9A67-6420E5F5D4E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D7EBA2D-BBB6-41E8-85E4-D44C1CC62AD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9777C454-05D3-4A5B-B45A-37BF4410131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315B9563-1BF3-4582-8E8B-7D6B1AD691D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A2BB6E8A-51B1-473C-B2B4-242C273B2A9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F1102668-BE25-4717-B2D5-3676129424D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34E660D8-6CC5-4C8B-9D1F-5B93EBDF010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0BEC9602-AC0F-438A-A45C-2A3B71F029F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A6FBB72B-92EB-483F-95DD-8B4AB6F0525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CC479BE5-91DF-4C94-BA6D-51CFD1CC07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96CFE385-4820-439E-BD8D-04ED29C3348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3CAAC55C-32FB-47CA-BA18-77F6D33C888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FE7A729F-47C6-4B3D-A566-BB4FC443C73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6E61F2F0-B1B7-4B0A-81E1-14149ED2281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C3545FC3-B827-43DD-9487-66B092D5250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58E9954B-1A6D-4E38-9A80-7715CDFAF05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AE932A59-8D84-4171-854A-494F7A2E8A4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8EAEE965-3B29-4EF1-9377-B91D98255BF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D1BA62AF-9D7B-402E-8B49-EBD95161436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6E5F17F7-3A04-4692-9253-B8147AFC87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9FFB488B-93DC-40C2-AC5A-C3F01D2DD9A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4E2D82CE-DA2C-452A-8A21-15D396B66C4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BA978865-37FE-452A-9E71-91A145F83DC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6A896DFC-0BBF-48CD-B8C9-E4482A3A38F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21B15A5F-8268-4E78-9BA7-C8C3225BA465}"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F7CE8C94-43A9-4E51-A353-CBC5717A541B}"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EBF263A4-DD57-4BBB-97BB-CA682238D888}"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66CCBD95-E211-45BA-930E-5BCB3CBABA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2A55145C-F68E-42AD-8988-9052662F8FE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8D3CEF51-1CA4-4295-AA36-A9EAEC129A56}"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4EFEA170-6B64-46DF-94F3-7A1831F95C4F}"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6A5F7794-28E0-4BFD-9905-7CC9810BD912}"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E289B45A-3484-4594-AC84-EAEEF0133DE6}"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5BF2261A-5D77-488F-B450-0FD7DA74712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330CD4C4-BA01-42C2-A18B-770C7BCD46FD}"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90B53001-8BB9-496D-AA98-B82297957C78}"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790F294C-4A45-4866-8E82-D547D26E2879}"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1E99443C-7E80-460E-8676-F57FA91AC2B1}"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40C240CD-5F66-4D01-9951-CD251EF3317E}"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2BACF401-F39E-461D-834C-F2B028BA34BB}"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7B23EA46-2FEC-4581-9D64-DD2DD4EFF465}"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AA026C2A-BDC2-4FF4-8499-DEF4158B05C2}"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688E98CF-596E-4F7C-A2BF-5DF1557D31FA}"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A166969F-C160-4055-9959-2046FCC1EAE2}"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F3180E0E-0A81-4D5B-9E66-2A6D9E0C8543}"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98F0705E-351E-4C1B-9FC9-B0C9264D42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459324C2-98E4-4D0D-94B9-D734D07299E6}"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7E07D2E3-EDC4-4479-9C63-38B652AA6C46}"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9FB154B2-9D21-4F87-845D-F23A1675F76B}"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D3C13C1B-88EB-4B44-8202-D4DC9058E749}"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B71E24FC-5C38-4644-B273-04E26E91C89F}"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ED9A2CD5-1672-4831-BF84-EED4D990E64C}"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9D16BFC9-F701-428E-8AB6-9B2BEEA726D6}"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BF57DDA3-45F8-4D9C-9F64-1AAC8C9D2EFC}"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67679D31-612D-425A-8033-FE2460E8CCFB}"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F3994185-0171-45E4-B900-7C8A0D0C30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D041BE85-CD79-4E4D-BA5E-A37542BE33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9328F2B3-5275-4750-BEAD-BD294FAF5739}"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6E47846F-9EA8-4CF1-8F0F-E41C61659686}"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DD04A759-ABFB-4391-9F9D-840FC001AC21}"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234B04FD-E4E3-4E39-BB32-1BBFC1E8B34B}"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854508FA-01E1-487A-89D5-D69C2DAD5F44}"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B32C6EC1-8982-4522-8757-932DEDF13AF5}"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7B28A2FA-B828-4328-A7E2-CCFD2CCD4C8B}"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24FC4C82-4404-44C4-8EC8-6F1F1E471DEA}"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A7236548-9F4B-4FAD-81A3-2FA563583C32}"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38F33DB0-DB9B-47CB-83A0-4FCBB1303D3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E7F7E629-E367-4ECC-A8FD-EC1F2300A4EB}"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42F7E5CA-9F7E-44A7-A07F-0D178E87561A}"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AB52AA31-D2CD-48BC-8D5E-97E1B8F232DF}"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93383CD5-2642-4824-8799-B978EF8F8877}"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9F362CC8-6563-4C12-A472-73A70A114473}"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B0CEFD6C-3728-45AF-A736-8D0B5F0C2649}"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C052878F-C39B-458A-BBEF-475BA01A5F62}"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D1EE89D0-2899-49F9-8647-B00FC2629C49}"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A2812A09-A7E6-416D-AB48-6FF5B3BF6BDE}"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B0D98EB9-F70C-4B6D-8645-85A1AF4FE1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79E6B461-1ADD-4E96-A8F0-5A123BB13F22}"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F03CEA6F-5BC3-47AE-B5B2-14CA064AF941}"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3E441418-41D6-4C64-9C72-13E86896D605}"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0DB6A5AA-709C-4091-A2B6-4C95A3E64343}"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048F920D-66D3-4854-86D5-A67949B66D82}"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AA5B31E3-3599-4C57-BD0D-944108381F3B}"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DFC94BC0-4AE6-4AB7-8531-F9E4719752DA}"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886A540D-95A6-456C-9087-845F66AFECFD}"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8427CD55-C639-4ACD-8038-EE78854768D6}"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3BBBD5C3-C32D-4EB9-827C-C230610564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FD644378-4027-485F-8DB6-DA6E8DDA9653}"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0BB8EF08-5EE0-455E-8919-2343D2F162A2}"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B861C715-B9CD-430F-9572-EFF9ADE96349}"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EF119DC3-49E1-4040-954C-9D31633591F7}"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DFB06A87-F998-4717-BF2D-FE2C9A1D2D21}"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3C91D255-5A66-482B-8196-84D838F8AF68}"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AB6F3B73-D52F-4159-B90A-2986FAE82D16}"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9BB8B53F-0D07-4E75-B950-46E36C9DF3C9}"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319059A2-B23F-4E88-9B79-C929FBC43246}"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EA62B02B-6635-41CD-B9CD-0879F5FE3E5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F56C0DF5-CCDF-4CFC-AAE9-81CE235066B1}"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D90602B9-B572-40E2-AE1E-21642CAE3F3D}"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44FD0D3D-540F-4194-BB78-1E6E7E199E6C}"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97261A80-E54E-42F8-97DA-559B124E2633}"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5BAA79C4-4404-4D2E-8A41-E609C094E546}"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E0371253-8A10-487A-A82F-F7869983E240}"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0929788B-A289-4868-8D66-06D881C5C4F3}"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78BAEA54-BB27-4194-B8E7-F2AD5B08D232}"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DDB182A0-B679-4BAA-9B84-E17264B5BE70}"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AB688218-0D22-4FB4-B23B-8300C1FE6DC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C9762BA-430B-42A3-A28F-9E72404254B4}"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2AD8DB80-B568-4718-A50F-BD8A6CE4307A}"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20F01159-0010-418E-A543-968C6924BD56}"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709A3DA3-52A1-4BA6-9B10-F2062E0D005E}"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92A419F4-3063-41ED-AE58-45CE92027521}"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88BB3F21-8B90-4C4E-B121-DA3C263C6461}"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EA72AE9D-6DEE-4F76-A8E3-52FEDBD69023}"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DC003CE7-F312-4687-B9F5-91CE4AD9B7DB}"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DE30D9D4-6AD2-4896-B39B-81F972889E1D}"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184F371B-E46A-4816-B4E7-E5328BC3A440}"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F21E2032-AED4-44DB-88FC-F422997C9CF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61103615-2722-48C7-AE3D-0B4C4B83B379}"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AD1254FB-163C-472C-ADCA-258AC1648D51}"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ED3C1B8E-07D0-4688-9EEA-720BB6FD4CCE}"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88B81E43-80E4-4743-8119-FF48A39C0B6A}"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01810F53-CB45-4D88-9CC5-C5240FB7BF84}"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DAD3A174-E5C2-4D98-A944-A771C8E1A765}"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18149F97-4DB0-4749-A487-F396880BDA31}"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5C4AF82D-9EA7-4AEF-85D6-C2FFB6D5957A}"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B30C8FC3-63EE-4540-B2C0-9D2348C6DD91}"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C960D9A1-B841-4861-91A0-BCAE81D05209}"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26C5D029-F0D1-4685-9F46-B50146DD94D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F30FFB95-7C85-45A3-8C5D-7EF1ACB23A9D}"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7B326467-7803-48CA-BD55-847D4CEF0C4D}"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1DB4A22D-7A89-418B-BCB8-EBDF34D06BF0}"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E5F39FB9-1C8B-49E6-97F3-54B37938EDF6}"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9C2B1A12-58F2-47A2-A8B2-C65BDC54B2F1}"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D18028A6-4552-473A-AE23-8BB4AEFEB673}"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636534F6-B335-447E-A1CA-3F91E97F53D3}"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0244BA7A-8FB7-48DD-AB38-C29E029D12AD}"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93AF8BFA-3505-47D3-832D-6772208FE896}"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FF563E68-29F0-4927-B286-A992BCB718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F1056F0E-8D6E-4A03-AFC8-60B0D02B11A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0A4B1447-68E3-4CDB-BEC9-3196443354F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63AC2191-0E37-4137-808E-9106EE09152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FF763D6D-DEA8-411B-B59C-9C6B0C835F7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930903B1-01A4-460F-AF4C-866CB7B25EF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A8C9CB17-AE9B-4A65-9850-1C49A7DCC28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A1B0E585-0B00-4D7C-8958-7230CBA7935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ED03FB32-170F-440A-BD9A-22912AFCC06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E49E53D-596B-40B6-9474-5A1F2EB4081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961B682E-F523-4A67-9277-84339EBF056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85963B2C-DDC0-4031-9698-6355009C08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437AD666-4B6F-470B-8A11-855CEFDA0C1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B21F854F-23C3-479C-8CCB-989A7B42CB9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E21A6385-16F6-40BD-96B6-74EAF215E2A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3365CAF5-E53C-4242-B86F-ED7C9B28B10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3BA728EF-61B0-4EC7-832D-1129DA734A6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0E4D3A7C-5BC6-40E9-B8A4-41D87639A9F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FF2D5A83-EC88-4DA8-AA56-4D872A681F6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8173C2AC-D7F5-4D5B-998F-F4CD98583D1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813A4515-8B9F-4DF5-8D2D-2A088763824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BC45368D-BB57-41E3-94B9-265B2F7BE4C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96F9C2-8D2A-43ED-82BE-937BBAD6E4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27A2E0AE-BBCF-4FBB-973B-B5274185979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BBFFD2B4-09C5-4702-AA0E-82D6E7E306E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312C7631-FFEB-497C-82D2-4C84C157807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0E62D2CE-DFC0-46C8-83A4-6CDA99A0E75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64A935FA-B8A0-4258-9CB7-133DB9BAC00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CC218584-35A9-456B-8BE7-E274F8ED022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D001119E-2247-496C-8293-4F2B76D2EF7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7D43A55B-1352-454B-B58B-E68931F155C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6B7DD1EF-A5AA-4707-8397-72C9EE33C6B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B8805B41-8C8C-4879-A7FF-697F733DDE6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845F8466-7D35-4505-9458-7516515E00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FE4212F5-A6EA-4068-BFB6-0EAEC396808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68F91B25-CA57-478B-8057-F37F9A83EC0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5D7ABD0-154C-4FAA-BEA1-9FECF879369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96434EA5-DAFD-4D1A-8E52-33300824045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2708C3F2-51FC-49E5-B966-51E0F3B0827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582EFA65-09C2-445C-9B3B-43AEA87683D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A72AEC9E-95CD-4F4D-B025-439B91D1FC6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012D96A1-45E8-47C4-B198-68042E37C31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7010E4CE-047C-4842-A222-C8657AB36E6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E1ABE1A4-C3C0-4371-816C-84076106EF2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B08B2195-8DD0-4953-9A2F-09AD9BC9DA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04749728-F807-4A5E-AE74-A1031922B91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D047014F-235D-446A-8F6A-B84D8601555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7A3C42E2-7682-48FF-848E-ADFECE0BC54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28A8EAB5-736B-428E-98E7-E35405DEED9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FE68FA6-B814-4566-A161-F77914DA3D0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7DA1FBF4-05F0-49F3-AC2F-9918025B65C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A94E8836-8BE4-46E2-A15E-A73CDB706CB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2E393AEB-C6B3-4055-ADA8-DC36EF243BC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729268CD-26BC-4E0D-89C2-47C079F4EAB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CAD04AFF-2C5A-4246-9FD3-CFA1EBF323E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106E0700-1C53-4B44-A18B-5B4F79E236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A539FE27-8E4D-4616-A6E9-3828C28F425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AD8BB2D3-4E9B-4CD2-AEA1-68AD152B5D9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CDF5A184-34AF-43CC-9CD2-A8908E61F2D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7EF3C211-A501-4A5A-BA63-CAC35BEDE32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30C7BD0D-B74C-4E7E-8FC9-ACD64C7225E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5ABE763D-7837-4EA7-8AA2-F84998D66CC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59ED21E-A077-4D29-8118-39AC0CEC276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46B82DE8-057F-46A8-8DA0-83067A8D72E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8CB3929E-D2A2-4E20-93B5-5C2E8A32FF7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442C4E40-8E30-4056-BE96-C9F796D9D63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96B514A7-6A0D-4394-AB26-24E9AD6AF7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AC08F0D5-73B8-485B-A0A1-9CD37E6488B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273FDD4A-3364-4212-93E5-ABB5F604958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518D0A36-8380-429E-9A88-7FFEB51E433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9117C38E-B4D3-4F93-9DC8-8C04B1D0112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50682F6D-4506-402C-AF00-31AC142C7F3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81741AA3-02A6-4F83-B04D-3B555F8E791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1B665263-6C21-4AF3-9445-A63BD240D17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043247BF-F1E8-445A-9EDA-A3DF761D429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2698350-DF2B-40A9-8224-768F4D5FD98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71C1632F-4612-4DE8-BDFE-D44B5D3653C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5F1E247C-447F-43DE-927A-68D77E1A33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A8065-B8CC-492F-82C7-2E691F1AC6E9}"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692E1-0FA7-4459-B2DD-F73B380A205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095F8-DC2B-4318-A231-BDC5BFC93B0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FB54B-99D1-43B7-BCB2-24406D2BEC5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1A823-7E54-4D59-AC44-CCBA16EF448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F10B6-13AA-47CE-B6D5-D7C155D18A1C}"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75B48-43F8-42DD-8343-01E7A7E7C3C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5E9F5-AD7D-40B2-B3CE-1576DC764D3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3E7D9-07CE-4AC9-BE12-8F84477B16F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A36B6-4D36-45FF-8ECA-6888A59EF0A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1415C-2434-4720-87D5-C53BB0417F7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9C0F6-CDBF-4C9D-AC3C-21753F4EB2D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5830D-ABE2-499B-9EF1-D0C069790C4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1FA5D-6A34-4A9E-9038-6645FF0C0ED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BFB08-430E-42AA-B285-4FF1774E344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7655F-3E23-4286-9A7B-49FA0FE6576A}"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9" name="PlaceHolder 3"/>
          <p:cNvSpPr>
            <a:spLocks noGrp="1"/>
          </p:cNvSpPr>
          <p:nvPr>
            <p:ph type="sldNum" idx="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BF350-0DA7-40A9-9E76-DF0D6A95FCA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FE0EF-415E-4B0A-82D2-EBDFA5A2643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C786F-10A4-484E-B6F8-6FE27F1B927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DC5F9-59CC-4A40-93BC-BCBB24B3FE6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D1DF3-5C23-4883-81CD-8C5E568306E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AAD6A-D2CF-4654-9820-18D0B07BAE0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590560"/>
            <a:ext cx="7696440" cy="132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Understanding Text-Dependent Questions</a:t>
            </a:r>
            <a:endParaRPr b="1" lang="en-US" sz="4000" spc="-1" strike="noStrike">
              <a:solidFill>
                <a:srgbClr val="17375e"/>
              </a:solidFill>
              <a:latin typeface="Century Gothic"/>
            </a:endParaRPr>
          </a:p>
        </p:txBody>
      </p:sp>
      <p:sp>
        <p:nvSpPr>
          <p:cNvPr id="103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36"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a:t>
            </a:r>
            <a:endParaRPr b="1" lang="en-US" sz="2800" spc="-1" strike="noStrike">
              <a:solidFill>
                <a:srgbClr val="17375e"/>
              </a:solidFill>
              <a:latin typeface="Century Gothic"/>
            </a:endParaRPr>
          </a:p>
        </p:txBody>
      </p:sp>
      <p:sp>
        <p:nvSpPr>
          <p:cNvPr id="1071" name=""/>
          <p:cNvSpPr txBox="1"/>
          <p:nvPr/>
        </p:nvSpPr>
        <p:spPr>
          <a:xfrm>
            <a:off x="502920" y="1248840"/>
            <a:ext cx="7954920" cy="20638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a:solidFill>
                  <a:srgbClr val="262626"/>
                </a:solidFill>
                <a:latin typeface="Calibri"/>
              </a:rPr>
              <a:t>everse-engineered or backwards-designe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ucial for creating an overarching set of successful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itical for creating an appropriate culminating assignment</a:t>
            </a:r>
            <a:endParaRPr b="0" lang="en-US" sz="2400" spc="-1" strike="noStrike">
              <a:solidFill>
                <a:srgbClr val="262626"/>
              </a:solidFill>
              <a:latin typeface="Calibri"/>
            </a:endParaRPr>
          </a:p>
        </p:txBody>
      </p:sp>
      <p:sp>
        <p:nvSpPr>
          <p:cNvPr id="107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5E770-DF60-48A6-9465-CCCF9D3757B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4726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 </a:t>
            </a:r>
            <a:r>
              <a:rPr b="1" i="1" lang="en-US" sz="2800" spc="-1" strike="noStrike">
                <a:solidFill>
                  <a:srgbClr val="17375e"/>
                </a:solidFill>
                <a:latin typeface="Century Gothic"/>
              </a:rPr>
              <a:t>Example</a:t>
            </a:r>
            <a:endParaRPr b="1" lang="en-US" sz="2800" spc="-1" strike="noStrike">
              <a:solidFill>
                <a:srgbClr val="17375e"/>
              </a:solidFill>
              <a:latin typeface="Century Gothic"/>
            </a:endParaRPr>
          </a:p>
        </p:txBody>
      </p:sp>
      <p:sp>
        <p:nvSpPr>
          <p:cNvPr id="1074" name=""/>
          <p:cNvSpPr txBox="1"/>
          <p:nvPr/>
        </p:nvSpPr>
        <p:spPr>
          <a:xfrm>
            <a:off x="503280" y="1294920"/>
            <a:ext cx="8137440" cy="491508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 Understanding and Key Idea:</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eople of very different ages may still have much in common and become friends.</a:t>
            </a:r>
            <a:endParaRPr b="0" lang="en-US" sz="2400" spc="-1" strike="noStrike">
              <a:solidFill>
                <a:srgbClr val="262626"/>
              </a:solidFill>
              <a:latin typeface="Calibri"/>
            </a:endParaRPr>
          </a:p>
          <a:p>
            <a:pPr>
              <a:lnSpc>
                <a:spcPct val="11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nopsis:</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al has just moved to a new town in a new state and has no friends yet.  Through a series of comic mishaps inadvertently started by her very special dog, Winn-Dixie, Opal meets Miss Franny, the town librarian.  Opal realizes they have much in common and a friendship is ignited.</a:t>
            </a:r>
            <a:endParaRPr b="0" lang="en-US" sz="2400" spc="-1" strike="noStrike">
              <a:solidFill>
                <a:srgbClr val="262626"/>
              </a:solidFill>
              <a:latin typeface="Calibri"/>
            </a:endParaRPr>
          </a:p>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7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991DF-FA98-460B-AF0F-EEAC543A75B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a:t>
            </a:r>
            <a:endParaRPr b="1" lang="en-US" sz="2800" spc="-1" strike="noStrike">
              <a:solidFill>
                <a:srgbClr val="17375e"/>
              </a:solidFill>
              <a:latin typeface="Century Gothic"/>
            </a:endParaRPr>
          </a:p>
        </p:txBody>
      </p:sp>
      <p:sp>
        <p:nvSpPr>
          <p:cNvPr id="1077" name=""/>
          <p:cNvSpPr txBox="1"/>
          <p:nvPr/>
        </p:nvSpPr>
        <p:spPr>
          <a:xfrm>
            <a:off x="503280" y="1212840"/>
            <a:ext cx="8137440" cy="4515480"/>
          </a:xfrm>
          <a:prstGeom prst="rect">
            <a:avLst/>
          </a:prstGeom>
          <a:noFill/>
          <a:ln w="0">
            <a:noFill/>
          </a:ln>
        </p:spPr>
        <p:txBody>
          <a:bodyPr anchor="t">
            <a:normAutofit/>
          </a:bodyPr>
          <a:p>
            <a:pPr>
              <a:lnSpc>
                <a:spcPct val="11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be taugh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ssential to understanding tex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kely to appear in future reading</a:t>
            </a:r>
            <a:endParaRPr b="0" lang="en-US" sz="2400" spc="-1" strike="noStrike">
              <a:solidFill>
                <a:srgbClr val="262626"/>
              </a:solidFill>
              <a:latin typeface="Calibri"/>
            </a:endParaRPr>
          </a:p>
          <a:p>
            <a:pPr lvl="1" marL="743040" indent="-285840">
              <a:lnSpc>
                <a:spcPct val="114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get more time and attention?</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abstract words (as opposed to concrete words)</a:t>
            </a:r>
            <a:endParaRPr b="0" lang="en-US" sz="24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persist </a:t>
            </a:r>
            <a:r>
              <a:rPr b="0" lang="en-US" sz="2200" spc="-1" strike="noStrike">
                <a:solidFill>
                  <a:srgbClr val="000000"/>
                </a:solidFill>
                <a:latin typeface="Calibri"/>
                <a:ea typeface="Arial"/>
              </a:rPr>
              <a:t> vs. checkpoint </a:t>
            </a:r>
            <a:endParaRPr b="0" lang="en-US" sz="22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noticed</a:t>
            </a:r>
            <a:r>
              <a:rPr b="0" lang="en-US" sz="2200" spc="-1" strike="noStrike">
                <a:solidFill>
                  <a:srgbClr val="000000"/>
                </a:solidFill>
                <a:latin typeface="Calibri"/>
                <a:ea typeface="Arial"/>
              </a:rPr>
              <a:t> vs. accident</a:t>
            </a:r>
            <a:endParaRPr b="0" lang="en-US" sz="22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ds which are part of semantic word family</a:t>
            </a:r>
            <a:endParaRPr b="0" lang="en-US" sz="2400" spc="-1" strike="noStrike">
              <a:solidFill>
                <a:srgbClr val="262626"/>
              </a:solidFill>
              <a:latin typeface="Calibri"/>
            </a:endParaRPr>
          </a:p>
          <a:p>
            <a:pPr lvl="4"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ecure, securely, security, secured</a:t>
            </a:r>
            <a:endParaRPr b="0" lang="en-US" sz="2200" spc="-1" strike="noStrike">
              <a:solidFill>
                <a:srgbClr val="262626"/>
              </a:solidFill>
              <a:latin typeface="Calibri"/>
            </a:endParaRPr>
          </a:p>
        </p:txBody>
      </p:sp>
      <p:sp>
        <p:nvSpPr>
          <p:cNvPr id="107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4CFA8-45E8-42A1-A933-C4CE97096A8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 and Text Dependent Questions</a:t>
            </a:r>
            <a:endParaRPr b="1" lang="en-US" sz="2800" spc="-1" strike="noStrike">
              <a:solidFill>
                <a:srgbClr val="17375e"/>
              </a:solidFill>
              <a:latin typeface="Century Gothic"/>
            </a:endParaRPr>
          </a:p>
        </p:txBody>
      </p:sp>
      <p:sp>
        <p:nvSpPr>
          <p:cNvPr id="1080" name=""/>
          <p:cNvSpPr txBox="1"/>
          <p:nvPr/>
        </p:nvSpPr>
        <p:spPr>
          <a:xfrm>
            <a:off x="503280" y="1255320"/>
            <a:ext cx="8137440" cy="4535640"/>
          </a:xfrm>
          <a:prstGeom prst="rect">
            <a:avLst/>
          </a:prstGeom>
          <a:noFill/>
          <a:ln w="0">
            <a:noFill/>
          </a:ln>
        </p:spPr>
        <p:txBody>
          <a:bodyPr anchor="t">
            <a:normAutofit/>
          </a:bodyPr>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Hot and Cold Summer” - 5</a:t>
            </a:r>
            <a:r>
              <a:rPr b="1" lang="en-US" sz="2400" spc="-1" strike="noStrike" baseline="30000">
                <a:solidFill>
                  <a:srgbClr val="000000"/>
                </a:solidFill>
                <a:latin typeface="Calibri"/>
                <a:ea typeface="Arial"/>
              </a:rPr>
              <a:t>th</a:t>
            </a:r>
            <a:r>
              <a:rPr b="1" lang="en-US" sz="2400" spc="-1" strike="noStrike">
                <a:solidFill>
                  <a:srgbClr val="000000"/>
                </a:solidFill>
                <a:latin typeface="Calibri"/>
                <a:ea typeface="Arial"/>
              </a:rPr>
              <a:t> grade fictional text</a:t>
            </a:r>
            <a:endParaRPr b="0" lang="en-US" sz="2400" spc="-1" strike="noStrike">
              <a:solidFill>
                <a:srgbClr val="262626"/>
              </a:solidFill>
              <a:latin typeface="Calibri"/>
            </a:endParaRPr>
          </a:p>
          <a:p>
            <a:pPr>
              <a:lnSpc>
                <a:spcPct val="114000"/>
              </a:lnSpc>
              <a:spcBef>
                <a:spcPts val="24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262626"/>
                </a:solidFill>
                <a:latin typeface="Calibri"/>
              </a:rPr>
              <a:t>To </a:t>
            </a:r>
            <a:r>
              <a:rPr b="0" i="1" lang="en-US" sz="2400" spc="-1" strike="noStrike">
                <a:solidFill>
                  <a:srgbClr val="262626"/>
                </a:solidFill>
                <a:latin typeface="Calibri"/>
              </a:rPr>
              <a:t>avoid</a:t>
            </a:r>
            <a:r>
              <a:rPr b="0" lang="en-US" sz="2400" spc="-1" strike="noStrike">
                <a:solidFill>
                  <a:srgbClr val="262626"/>
                </a:solidFill>
                <a:latin typeface="Calibri"/>
              </a:rPr>
              <a:t> someone means to keep away from them so that you don’t have to see them and they don’t have to see you.  How did the boys avoid meeting Bolivia at first?” (pg. 23)</a:t>
            </a:r>
            <a:endParaRPr b="0" lang="en-US" sz="2400" spc="-1" strike="noStrike">
              <a:solidFill>
                <a:srgbClr val="262626"/>
              </a:solidFill>
              <a:latin typeface="Calibri"/>
            </a:endParaRPr>
          </a:p>
          <a:p>
            <a:pPr>
              <a:lnSpc>
                <a:spcPct val="114000"/>
              </a:lnSpc>
              <a:spcBef>
                <a:spcPts val="1800"/>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read the last two paragraphs on page 39.  Rory had a “strong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is a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details in the story made Rory suspicious of Bolivia?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3A79A-FC38-484E-A787-A2D64014C34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4298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yntax and Text Dependent Questions</a:t>
            </a:r>
            <a:endParaRPr b="1" lang="en-US" sz="2800" spc="-1" strike="noStrike">
              <a:solidFill>
                <a:srgbClr val="17375e"/>
              </a:solidFill>
              <a:latin typeface="Century Gothic"/>
            </a:endParaRPr>
          </a:p>
        </p:txBody>
      </p:sp>
      <p:sp>
        <p:nvSpPr>
          <p:cNvPr id="1083" name=""/>
          <p:cNvSpPr txBox="1"/>
          <p:nvPr/>
        </p:nvSpPr>
        <p:spPr>
          <a:xfrm>
            <a:off x="457200" y="1294920"/>
            <a:ext cx="8229600" cy="39387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yntax can predict student performance as much as vocabulary do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Questions and tasks addressing syntax are powerful.</a:t>
            </a:r>
            <a:endParaRPr b="0" lang="en-US" sz="2400" spc="-1" strike="noStrike">
              <a:solidFill>
                <a:srgbClr val="262626"/>
              </a:solidFill>
              <a:latin typeface="Calibri"/>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5720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Who are the members of the wolf pack?  How many wolves are in the pack? To answer this, pay close attention to the use of </a:t>
            </a:r>
            <a:r>
              <a:rPr b="1" lang="en-US" sz="2200" spc="-1" strike="noStrike">
                <a:solidFill>
                  <a:srgbClr val="000000"/>
                </a:solidFill>
                <a:latin typeface="Calibri"/>
                <a:ea typeface="Arial"/>
              </a:rPr>
              <a:t>commas and semi-colons</a:t>
            </a:r>
            <a:r>
              <a:rPr b="0" lang="en-US" sz="2200" spc="-1" strike="noStrike">
                <a:solidFill>
                  <a:srgbClr val="000000"/>
                </a:solidFill>
                <a:latin typeface="Calibri"/>
                <a:ea typeface="Arial"/>
              </a:rPr>
              <a:t> in the last paragraph on pg. 377.  The semi-colons separate or list each member in the pack.</a:t>
            </a:r>
            <a:endParaRPr b="0" lang="en-US" sz="2200" spc="-1" strike="noStrike">
              <a:solidFill>
                <a:srgbClr val="262626"/>
              </a:solidFill>
              <a:latin typeface="Calibri"/>
            </a:endParaRPr>
          </a:p>
        </p:txBody>
      </p:sp>
      <p:sp>
        <p:nvSpPr>
          <p:cNvPr id="108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6AC57-D300-4724-9B56-31DCEE0211C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42660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Dependent Questions</a:t>
            </a:r>
            <a:endParaRPr b="1" lang="en-US" sz="2800" spc="-1" strike="noStrike">
              <a:solidFill>
                <a:srgbClr val="17375e"/>
              </a:solidFill>
              <a:latin typeface="Century Gothic"/>
            </a:endParaRPr>
          </a:p>
        </p:txBody>
      </p:sp>
      <p:sp>
        <p:nvSpPr>
          <p:cNvPr id="1086" name=""/>
          <p:cNvSpPr txBox="1"/>
          <p:nvPr/>
        </p:nvSpPr>
        <p:spPr>
          <a:xfrm>
            <a:off x="483840" y="1177920"/>
            <a:ext cx="8139240" cy="2749680"/>
          </a:xfrm>
          <a:prstGeom prst="rect">
            <a:avLst/>
          </a:prstGeom>
          <a:noFill/>
          <a:ln w="0">
            <a:noFill/>
          </a:ln>
        </p:spPr>
        <p:txBody>
          <a:bodyPr tIns="91440" bIns="91440"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dependent questions can be crafted to point students’ attention to features of text that enhance understanding (such as how section headers and captions lead to greater clarity or provide hints regarding what is most important in informational text, or how illustrations add to a narrative).</a:t>
            </a:r>
            <a:endParaRPr b="0" lang="en-US" sz="24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7"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7BF90-BA11-44DD-96DC-D44F8E55FB2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8384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 Dependent Questions</a:t>
            </a:r>
            <a:endParaRPr b="1" lang="en-US" sz="2800" spc="-1" strike="noStrike">
              <a:solidFill>
                <a:srgbClr val="17375e"/>
              </a:solidFill>
              <a:latin typeface="Century Gothic"/>
            </a:endParaRPr>
          </a:p>
        </p:txBody>
      </p:sp>
      <p:sp>
        <p:nvSpPr>
          <p:cNvPr id="1089" name=""/>
          <p:cNvSpPr txBox="1"/>
          <p:nvPr/>
        </p:nvSpPr>
        <p:spPr>
          <a:xfrm>
            <a:off x="503280" y="1294920"/>
            <a:ext cx="8137440" cy="3746520"/>
          </a:xfrm>
          <a:prstGeom prst="rect">
            <a:avLst/>
          </a:prstGeom>
          <a:noFill/>
          <a:ln w="0">
            <a:noFill/>
          </a:ln>
        </p:spPr>
        <p:txBody>
          <a:bodyPr anchor="t">
            <a:norm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s:</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Look at the illustrations on page 31. Why did the illustrator include details like the power outlets in the walls?”</a:t>
            </a:r>
            <a:endParaRPr b="0" lang="en-US" sz="22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Dillard is careful to place opposing descriptions of the natural and man-made side-by-side. How does this juxtaposition fit with or challenge what we have already read? Why might she have chosen this point in the text for these descriptions?”</a:t>
            </a:r>
            <a:endParaRPr b="0" lang="en-US" sz="2200" spc="-1" strike="noStrike">
              <a:solidFill>
                <a:srgbClr val="262626"/>
              </a:solidFill>
              <a:latin typeface="Calibri"/>
            </a:endParaRPr>
          </a:p>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090"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26744-C08A-46E5-A336-3D248B0F0D9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155520"/>
            <a:ext cx="822960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Strategies and Text-Dependent Questions</a:t>
            </a:r>
            <a:endParaRPr b="1" lang="en-US" sz="2800" spc="-1" strike="noStrike">
              <a:solidFill>
                <a:srgbClr val="17375e"/>
              </a:solidFill>
              <a:latin typeface="Century Gothic"/>
            </a:endParaRPr>
          </a:p>
        </p:txBody>
      </p:sp>
      <p:sp>
        <p:nvSpPr>
          <p:cNvPr id="1092" name=""/>
          <p:cNvSpPr txBox="1"/>
          <p:nvPr/>
        </p:nvSpPr>
        <p:spPr>
          <a:xfrm>
            <a:off x="503280" y="1185480"/>
            <a:ext cx="8137440" cy="29257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dependent questions generally call on students to employ reading strategi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es are no longer taught in isol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t and readers’ need to comprehend it should determine what strategies are activated - not the other way around.</a:t>
            </a:r>
            <a:endParaRPr b="0" lang="en-US" sz="2400" spc="-1" strike="noStrike">
              <a:solidFill>
                <a:srgbClr val="262626"/>
              </a:solidFill>
              <a:latin typeface="Calibri"/>
            </a:endParaRPr>
          </a:p>
        </p:txBody>
      </p:sp>
      <p:sp>
        <p:nvSpPr>
          <p:cNvPr id="109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88312-9051-47BE-A578-B2340131678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4" name=""/>
          <p:cNvGraphicFramePr/>
          <p:nvPr/>
        </p:nvGraphicFramePr>
        <p:xfrm>
          <a:off x="533520" y="312840"/>
          <a:ext cx="822240" cy="6097320"/>
        </p:xfrm>
        <a:graphic>
          <a:graphicData uri="http://schemas.openxmlformats.org/drawingml/2006/table">
            <a:tbl>
              <a:tblPr/>
              <a:tblGrid>
                <a:gridCol w="822240"/>
              </a:tblGrid>
              <a:tr h="610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5" name="Shape 212"/>
          <p:cNvSpPr/>
          <p:nvPr/>
        </p:nvSpPr>
        <p:spPr>
          <a:xfrm rot="16200000">
            <a:off x="-77040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ed Ability to Use Text Evidence</a:t>
            </a:r>
            <a:endParaRPr b="0" lang="en-US" sz="2400" spc="-1" strike="noStrike">
              <a:solidFill>
                <a:srgbClr val="000000"/>
              </a:solidFill>
              <a:latin typeface="Arial"/>
            </a:endParaRPr>
          </a:p>
        </p:txBody>
      </p:sp>
      <p:sp>
        <p:nvSpPr>
          <p:cNvPr id="1096" name="Shape 213"/>
          <p:cNvSpPr/>
          <p:nvPr/>
        </p:nvSpPr>
        <p:spPr>
          <a:xfrm>
            <a:off x="2514600" y="3247920"/>
            <a:ext cx="4191120" cy="457560"/>
          </a:xfrm>
          <a:prstGeom prst="rect">
            <a:avLst/>
          </a:prstGeom>
          <a:solidFill>
            <a:srgbClr val="ffffff"/>
          </a:solid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s Two through Nine </a:t>
            </a:r>
            <a:endParaRPr b="0" lang="en-US" sz="2400" spc="-1" strike="noStrike">
              <a:solidFill>
                <a:srgbClr val="000000"/>
              </a:solidFill>
              <a:latin typeface="Arial"/>
            </a:endParaRPr>
          </a:p>
        </p:txBody>
      </p:sp>
      <p:graphicFrame>
        <p:nvGraphicFramePr>
          <p:cNvPr id="1097" name=""/>
          <p:cNvGraphicFramePr/>
          <p:nvPr/>
        </p:nvGraphicFramePr>
        <p:xfrm>
          <a:off x="7972560" y="314280"/>
          <a:ext cx="822240" cy="6095880"/>
        </p:xfrm>
        <a:graphic>
          <a:graphicData uri="http://schemas.openxmlformats.org/drawingml/2006/table">
            <a:tbl>
              <a:tblPr/>
              <a:tblGrid>
                <a:gridCol w="822240"/>
              </a:tblGrid>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8" name="Shape 217"/>
          <p:cNvSpPr/>
          <p:nvPr/>
        </p:nvSpPr>
        <p:spPr>
          <a:xfrm>
            <a:off x="1751040" y="339840"/>
            <a:ext cx="22860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One</a:t>
            </a:r>
            <a:endParaRPr b="0" lang="en-US" sz="2400" spc="-1" strike="noStrike">
              <a:solidFill>
                <a:srgbClr val="000000"/>
              </a:solidFill>
              <a:latin typeface="Arial"/>
            </a:endParaRPr>
          </a:p>
        </p:txBody>
      </p:sp>
      <p:sp>
        <p:nvSpPr>
          <p:cNvPr id="1099" name="Shape 218"/>
          <p:cNvSpPr/>
          <p:nvPr/>
        </p:nvSpPr>
        <p:spPr>
          <a:xfrm>
            <a:off x="5491080" y="339840"/>
            <a:ext cx="2121120" cy="45756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Ten</a:t>
            </a:r>
            <a:endParaRPr b="0" lang="en-US" sz="2400" spc="-1" strike="noStrike">
              <a:solidFill>
                <a:srgbClr val="000000"/>
              </a:solidFill>
              <a:latin typeface="Arial"/>
            </a:endParaRPr>
          </a:p>
        </p:txBody>
      </p:sp>
      <p:cxnSp>
        <p:nvCxnSpPr>
          <p:cNvPr id="1100" name="Shape 219"/>
          <p:cNvCxnSpPr/>
          <p:nvPr/>
        </p:nvCxnSpPr>
        <p:spPr>
          <a:xfrm>
            <a:off x="4460400" y="1305000"/>
            <a:ext cx="1080" cy="838800"/>
          </a:xfrm>
          <a:prstGeom prst="straightConnector1">
            <a:avLst/>
          </a:prstGeom>
          <a:ln w="9360">
            <a:solidFill>
              <a:srgbClr val="4a7dbb"/>
            </a:solidFill>
            <a:miter/>
            <a:tailEnd len="lg" type="stealth" w="lg"/>
          </a:ln>
        </p:spPr>
      </p:cxnSp>
      <p:cxnSp>
        <p:nvCxnSpPr>
          <p:cNvPr id="1101" name="Shape 220"/>
          <p:cNvCxnSpPr/>
          <p:nvPr/>
        </p:nvCxnSpPr>
        <p:spPr>
          <a:xfrm>
            <a:off x="4419360" y="5267160"/>
            <a:ext cx="1080" cy="991440"/>
          </a:xfrm>
          <a:prstGeom prst="straightConnector1">
            <a:avLst/>
          </a:prstGeom>
          <a:ln w="9360">
            <a:solidFill>
              <a:srgbClr val="4a7dbb"/>
            </a:solidFill>
            <a:miter/>
            <a:tailEnd len="lg" type="stealth" w="lg"/>
          </a:ln>
        </p:spPr>
      </p:cxnSp>
      <p:sp>
        <p:nvSpPr>
          <p:cNvPr id="110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EED62-DF4B-4324-8144-E1D843F00D1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3" name="Shape 212"/>
          <p:cNvSpPr/>
          <p:nvPr/>
        </p:nvSpPr>
        <p:spPr>
          <a:xfrm rot="16200000">
            <a:off x="462888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ing Range and Complexity</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0">
                                  <p:stCondLst>
                                    <p:cond delay="0"/>
                                  </p:stCondLst>
                                  <p:childTnLst>
                                    <p:set>
                                      <p:cBhvr>
                                        <p:cTn id="40" dur="1" fill="hold">
                                          <p:stCondLst>
                                            <p:cond delay="0"/>
                                          </p:stCondLst>
                                        </p:cTn>
                                        <p:tgtEl>
                                          <p:spTgt spid="1096"/>
                                        </p:tgtEl>
                                        <p:attrNameLst>
                                          <p:attrName>style.visibility</p:attrName>
                                        </p:attrNameLst>
                                      </p:cBhvr>
                                      <p:to>
                                        <p:strVal val="visible"/>
                                      </p:to>
                                    </p:set>
                                    <p:animEffect filter="fade" transition="in">
                                      <p:cBhvr additive="repl">
                                        <p:cTn id="41" dur="2000"/>
                                        <p:tgtEl>
                                          <p:spTgt spid="109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10">
                                  <p:stCondLst>
                                    <p:cond delay="0"/>
                                  </p:stCondLst>
                                  <p:childTnLst>
                                    <p:animEffect filter="fade" transition="out">
                                      <p:cBhvr additive="repl">
                                        <p:cTn id="45" dur="500"/>
                                        <p:tgtEl>
                                          <p:spTgt spid="1096"/>
                                        </p:tgtEl>
                                      </p:cBhvr>
                                    </p:animEffect>
                                    <p:set>
                                      <p:cBhvr>
                                        <p:cTn id="46" dur="1" fill="hold">
                                          <p:stCondLst>
                                            <p:cond delay="500"/>
                                          </p:stCondLst>
                                        </p:cTn>
                                        <p:tgtEl>
                                          <p:spTgt spid="10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4172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ulminating Tasks</a:t>
            </a:r>
            <a:endParaRPr b="1" lang="en-US" sz="2800" spc="-1" strike="noStrike">
              <a:solidFill>
                <a:srgbClr val="17375e"/>
              </a:solidFill>
              <a:latin typeface="Century Gothic"/>
            </a:endParaRPr>
          </a:p>
        </p:txBody>
      </p:sp>
      <p:sp>
        <p:nvSpPr>
          <p:cNvPr id="1105" name=""/>
          <p:cNvSpPr txBox="1"/>
          <p:nvPr/>
        </p:nvSpPr>
        <p:spPr>
          <a:xfrm>
            <a:off x="457200" y="1145880"/>
            <a:ext cx="8229600" cy="4800600"/>
          </a:xfrm>
          <a:prstGeom prst="rect">
            <a:avLst/>
          </a:prstGeom>
          <a:noFill/>
          <a:ln w="0">
            <a:noFill/>
          </a:ln>
        </p:spPr>
        <p:txBody>
          <a:bodyPr anchor="t">
            <a:normAutofit fontScale="93000"/>
          </a:bodyPr>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ould relate to core understanding and key ideas.</a:t>
            </a:r>
            <a:endParaRPr b="0" lang="en-US" sz="2400" spc="-1" strike="noStrike">
              <a:solidFill>
                <a:srgbClr val="262626"/>
              </a:solidFill>
              <a:latin typeface="Calibri"/>
            </a:endParaRPr>
          </a:p>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coherent sequence of text dependent questions will scaffold students toward successfully completing the culminating task.</a:t>
            </a:r>
            <a:endParaRPr b="0" lang="en-US" sz="2400" spc="-1" strike="noStrike">
              <a:solidFill>
                <a:srgbClr val="262626"/>
              </a:solidFill>
              <a:latin typeface="Calibri"/>
            </a:endParaRPr>
          </a:p>
          <a:p>
            <a:pPr marL="318960" indent="-31896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2516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The title of this selection is ‘Because of Winn-Dixie.' Using  your answers from the questions above and class discussion, explain why this is an appropriate title for the selection. Be sure to clearly cite evidence from the text for each part of your answer.”</a:t>
            </a:r>
            <a:endParaRPr b="0" lang="en-US" sz="2200" spc="-1" strike="noStrike">
              <a:solidFill>
                <a:srgbClr val="262626"/>
              </a:solidFill>
              <a:latin typeface="Calibri"/>
            </a:endParaRPr>
          </a:p>
          <a:p>
            <a:pPr lvl="1" marL="425160">
              <a:lnSpc>
                <a:spcPct val="118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Officer Buckle’s final safety tip is 'ALWAYS STICK WITH YOUR BUDDY.'  How did he and Gloria each learn this lesson for themselves throughout the story?”</a:t>
            </a:r>
            <a:endParaRPr b="0" lang="en-US" sz="2200" spc="-1" strike="noStrike">
              <a:solidFill>
                <a:srgbClr val="262626"/>
              </a:solidFill>
              <a:latin typeface="Calibri"/>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106"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7B694-6E3D-4EAF-821F-CDAFD0ACB47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072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38" name=""/>
          <p:cNvSpPr txBox="1"/>
          <p:nvPr/>
        </p:nvSpPr>
        <p:spPr>
          <a:xfrm>
            <a:off x="503280" y="1295280"/>
            <a:ext cx="8137440" cy="334800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 i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instruc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3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76BB8-9C55-4CA2-A085-6C6994100A7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8">
                                            <p:txEl>
                                              <p:pRg st="0" end="0"/>
                                            </p:txEl>
                                          </p:spTgt>
                                        </p:tgtEl>
                                        <p:attrNameLst>
                                          <p:attrName>style.visibility</p:attrName>
                                        </p:attrNameLst>
                                      </p:cBhvr>
                                      <p:to>
                                        <p:strVal val="visible"/>
                                      </p:to>
                                    </p:set>
                                    <p:animEffect filter="fade" transition="in">
                                      <p:cBhvr additive="repl">
                                        <p:cTn id="7" dur="1"/>
                                        <p:tgtEl>
                                          <p:spTgt spid="103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38">
                                            <p:txEl>
                                              <p:pRg st="1" end="1"/>
                                            </p:txEl>
                                          </p:spTgt>
                                        </p:tgtEl>
                                        <p:attrNameLst>
                                          <p:attrName>style.visibility</p:attrName>
                                        </p:attrNameLst>
                                      </p:cBhvr>
                                      <p:to>
                                        <p:strVal val="visible"/>
                                      </p:to>
                                    </p:set>
                                    <p:animEffect filter="fade" transition="in">
                                      <p:cBhvr additive="repl">
                                        <p:cTn id="12" dur="1"/>
                                        <p:tgtEl>
                                          <p:spTgt spid="103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8">
                                            <p:txEl>
                                              <p:pRg st="2" end="2"/>
                                            </p:txEl>
                                          </p:spTgt>
                                        </p:tgtEl>
                                        <p:attrNameLst>
                                          <p:attrName>style.visibility</p:attrName>
                                        </p:attrNameLst>
                                      </p:cBhvr>
                                      <p:to>
                                        <p:strVal val="visible"/>
                                      </p:to>
                                    </p:set>
                                    <p:animEffect filter="fade" transition="in">
                                      <p:cBhvr additive="repl">
                                        <p:cTn id="17" dur="1"/>
                                        <p:tgtEl>
                                          <p:spTgt spid="10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41724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inal Thoughts</a:t>
            </a:r>
            <a:endParaRPr b="1" lang="en-US" sz="2800" spc="-1" strike="noStrike">
              <a:solidFill>
                <a:srgbClr val="17375e"/>
              </a:solidFill>
              <a:latin typeface="Century Gothic"/>
            </a:endParaRPr>
          </a:p>
        </p:txBody>
      </p:sp>
      <p:sp>
        <p:nvSpPr>
          <p:cNvPr id="1108" name=""/>
          <p:cNvSpPr txBox="1"/>
          <p:nvPr/>
        </p:nvSpPr>
        <p:spPr>
          <a:xfrm>
            <a:off x="503280" y="1079280"/>
            <a:ext cx="8137440" cy="5430600"/>
          </a:xfrm>
          <a:prstGeom prst="rect">
            <a:avLst/>
          </a:prstGeom>
          <a:noFill/>
          <a:ln w="0">
            <a:noFill/>
          </a:ln>
        </p:spPr>
        <p:txBody>
          <a:bodyPr tIns="91440" bIns="91440"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one right way to have students work with text- dependent questions.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for the differing needs of students means providing and scaffolding supports differentially - not asking easier questions or substituting simpler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ening and speaking should be built into any sequence of activities along with reading and writing.</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read it, think it, talk it, write i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CSS require ALL students to read and engage with grade appropriate complex text regularly. This requires new ways of working in our classrooms.</a:t>
            </a:r>
            <a:endParaRPr b="0" lang="en-US" sz="2400" spc="-1" strike="noStrike">
              <a:solidFill>
                <a:srgbClr val="262626"/>
              </a:solidFill>
              <a:latin typeface="Calibri"/>
            </a:endParaRPr>
          </a:p>
        </p:txBody>
      </p:sp>
      <p:sp>
        <p:nvSpPr>
          <p:cNvPr id="110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7A6A9-6EEA-490B-BD66-D5D87820245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487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hift # 2: Text-Dependent Questions</a:t>
            </a:r>
            <a:endParaRPr b="1" lang="en-US" sz="2800" spc="-1" strike="noStrike">
              <a:solidFill>
                <a:srgbClr val="17375e"/>
              </a:solidFill>
              <a:latin typeface="Century Gothic"/>
            </a:endParaRPr>
          </a:p>
        </p:txBody>
      </p:sp>
      <p:sp>
        <p:nvSpPr>
          <p:cNvPr id="1041" name="Shape 91"/>
          <p:cNvSpPr/>
          <p:nvPr/>
        </p:nvSpPr>
        <p:spPr>
          <a:xfrm>
            <a:off x="503280" y="1295280"/>
            <a:ext cx="8137440" cy="3798360"/>
          </a:xfrm>
          <a:prstGeom prst="rect">
            <a:avLst/>
          </a:prstGeom>
          <a:noFill/>
          <a:ln w="0">
            <a:noFill/>
          </a:ln>
        </p:spPr>
        <p:style>
          <a:lnRef idx="0"/>
          <a:fillRef idx="0"/>
          <a:effectRef idx="0"/>
          <a:fontRef idx="minor"/>
        </p:style>
        <p:txBody>
          <a:bodyPr anchor="t">
            <a:spAutoFit/>
          </a:bodyPr>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alibri"/>
                <a:ea typeface="Arial"/>
              </a:rPr>
              <a:t>Regular practice with </a:t>
            </a:r>
            <a:r>
              <a:rPr b="1" lang="en-US" sz="2800" spc="-1" strike="noStrike">
                <a:solidFill>
                  <a:srgbClr val="7f7f7f"/>
                </a:solidFill>
                <a:latin typeface="Calibri"/>
                <a:ea typeface="Arial"/>
              </a:rPr>
              <a:t>complex text </a:t>
            </a:r>
            <a:r>
              <a:rPr b="0" lang="en-US" sz="2800" spc="-1" strike="noStrike">
                <a:solidFill>
                  <a:srgbClr val="7f7f7f"/>
                </a:solidFill>
                <a:latin typeface="Calibri"/>
                <a:ea typeface="Arial"/>
              </a:rPr>
              <a:t>and its </a:t>
            </a:r>
            <a:r>
              <a:rPr b="1" lang="en-US" sz="2800" spc="-1" strike="noStrike">
                <a:solidFill>
                  <a:srgbClr val="7f7f7f"/>
                </a:solidFill>
                <a:latin typeface="Calibri"/>
                <a:ea typeface="Arial"/>
              </a:rPr>
              <a:t>academic language</a:t>
            </a:r>
            <a:endParaRPr b="0" lang="en-US" sz="2800" spc="-1" strike="noStrike">
              <a:solidFill>
                <a:srgbClr val="000000"/>
              </a:solidFill>
              <a:latin typeface="Arial"/>
            </a:endParaRPr>
          </a:p>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ea typeface="Arial"/>
              </a:rPr>
              <a:t>Reading, writing, and speaking grounded in          evidence from text, both literary and informational</a:t>
            </a:r>
            <a:endParaRPr b="0" lang="en-US" sz="2800" spc="-1" strike="noStrike">
              <a:solidFill>
                <a:srgbClr val="000000"/>
              </a:solidFill>
              <a:latin typeface="Arial"/>
            </a:endParaRPr>
          </a:p>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Calibri"/>
                <a:ea typeface="Arial"/>
              </a:rPr>
              <a:t>Building knowledge </a:t>
            </a:r>
            <a:r>
              <a:rPr b="0" lang="en-US" sz="2800" spc="-1" strike="noStrike">
                <a:solidFill>
                  <a:srgbClr val="7f7f7f"/>
                </a:solidFill>
                <a:latin typeface="Calibri"/>
                <a:ea typeface="Arial"/>
              </a:rPr>
              <a:t>through </a:t>
            </a:r>
            <a:r>
              <a:rPr b="1" lang="en-US" sz="2800" spc="-1" strike="noStrike">
                <a:solidFill>
                  <a:srgbClr val="7f7f7f"/>
                </a:solidFill>
                <a:latin typeface="Calibri"/>
                <a:ea typeface="Arial"/>
              </a:rPr>
              <a:t>content-rich nonfiction</a:t>
            </a:r>
            <a:endParaRPr b="0" lang="en-US" sz="2800" spc="-1" strike="noStrike">
              <a:solidFill>
                <a:srgbClr val="000000"/>
              </a:solidFill>
              <a:latin typeface="Arial"/>
            </a:endParaRPr>
          </a:p>
        </p:txBody>
      </p:sp>
      <p:sp>
        <p:nvSpPr>
          <p:cNvPr id="104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95D76-FA3D-484F-B28B-FD93259EFFF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24" dur="1"/>
                                        <p:tgtEl>
                                          <p:spTgt spid="1041">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41">
                                            <p:txEl>
                                              <p:pRg st="1" end="1"/>
                                            </p:txEl>
                                          </p:spTgt>
                                        </p:tgtEl>
                                        <p:attrNameLst>
                                          <p:attrName>style.visibility</p:attrName>
                                        </p:attrNameLst>
                                      </p:cBhvr>
                                      <p:to>
                                        <p:strVal val="visible"/>
                                      </p:to>
                                    </p:set>
                                    <p:animEffect filter="fade" transition="in">
                                      <p:cBhvr additive="repl">
                                        <p:cTn id="29" dur="1"/>
                                        <p:tgtEl>
                                          <p:spTgt spid="1041">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34" dur="1"/>
                                        <p:tgtEl>
                                          <p:spTgt spid="10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 In and Out of the Text</a:t>
            </a:r>
            <a:endParaRPr b="1" lang="en-US" sz="2800" spc="-1" strike="noStrike">
              <a:solidFill>
                <a:srgbClr val="17375e"/>
              </a:solidFill>
              <a:latin typeface="Century Gothic"/>
            </a:endParaRPr>
          </a:p>
        </p:txBody>
      </p:sp>
      <p:sp>
        <p:nvSpPr>
          <p:cNvPr id="1044" name=""/>
          <p:cNvSpPr txBox="1"/>
          <p:nvPr/>
        </p:nvSpPr>
        <p:spPr>
          <a:xfrm>
            <a:off x="503280" y="1236240"/>
            <a:ext cx="8137440" cy="39229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instructional time spent outside the text means less time inside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parting from the text in classroom discussion privileges only those who already have experience with the topic.</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 is easier to talk about our experiences than to analyze the text—especially for students reluctant to engage with reading.</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CCSS are College and Career Readiness Standards.</a:t>
            </a:r>
            <a:endParaRPr b="0" lang="en-US" sz="2400" spc="-1" strike="noStrike">
              <a:solidFill>
                <a:srgbClr val="262626"/>
              </a:solidFill>
              <a:latin typeface="Calibri"/>
            </a:endParaRPr>
          </a:p>
        </p:txBody>
      </p:sp>
      <p:sp>
        <p:nvSpPr>
          <p:cNvPr id="104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8F045-BA01-41C5-8C2F-2B5D6B97640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 are not…</a:t>
            </a:r>
            <a:endParaRPr b="1" lang="en-US" sz="2800" spc="-1" strike="noStrike">
              <a:solidFill>
                <a:srgbClr val="17375e"/>
              </a:solidFill>
              <a:latin typeface="Century Gothic"/>
            </a:endParaRPr>
          </a:p>
        </p:txBody>
      </p:sp>
      <p:sp>
        <p:nvSpPr>
          <p:cNvPr id="1047" name=""/>
          <p:cNvSpPr txBox="1"/>
          <p:nvPr/>
        </p:nvSpPr>
        <p:spPr>
          <a:xfrm>
            <a:off x="549360" y="1294920"/>
            <a:ext cx="8137440" cy="1799640"/>
          </a:xfrm>
          <a:prstGeom prst="rect">
            <a:avLst/>
          </a:prstGeom>
          <a:noFill/>
          <a:ln w="0">
            <a:noFill/>
          </a:ln>
        </p:spPr>
        <p:txBody>
          <a:bodyPr anchor="t">
            <a:normAutofit/>
          </a:bodyPr>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w-level, literal, or recall question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d on comprehension strategie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Just questions…</a:t>
            </a:r>
            <a:endParaRPr b="0" lang="en-US" sz="2400" spc="-1" strike="noStrike">
              <a:solidFill>
                <a:srgbClr val="262626"/>
              </a:solidFill>
              <a:latin typeface="Calibri"/>
            </a:endParaRPr>
          </a:p>
        </p:txBody>
      </p:sp>
      <p:sp>
        <p:nvSpPr>
          <p:cNvPr id="104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A39B6-195C-46EA-800B-9066342C042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a:t>
            </a:r>
            <a:endParaRPr b="1" lang="en-US" sz="2800" spc="-1" strike="noStrike">
              <a:solidFill>
                <a:srgbClr val="17375e"/>
              </a:solidFill>
              <a:latin typeface="Century Gothic"/>
            </a:endParaRPr>
          </a:p>
        </p:txBody>
      </p:sp>
      <p:sp>
        <p:nvSpPr>
          <p:cNvPr id="1050" name=""/>
          <p:cNvSpPr txBox="1"/>
          <p:nvPr/>
        </p:nvSpPr>
        <p:spPr>
          <a:xfrm>
            <a:off x="503280" y="1207800"/>
            <a:ext cx="8137440" cy="44974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t>
            </a:r>
            <a:r>
              <a:rPr b="0" i="1" lang="en-US" sz="2400" spc="-1" strike="noStrike">
                <a:solidFill>
                  <a:srgbClr val="262626"/>
                </a:solidFill>
                <a:latin typeface="Calibri"/>
              </a:rPr>
              <a:t>only</a:t>
            </a:r>
            <a:r>
              <a:rPr b="0" lang="en-US" sz="2400" spc="-1" strike="noStrike">
                <a:solidFill>
                  <a:srgbClr val="262626"/>
                </a:solidFill>
                <a:latin typeface="Calibri"/>
              </a:rPr>
              <a:t> be answered with evidence from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be literal (checking for understanding) but must also involve analysis, synthesis, evalu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word, sentence, and paragraph, as well as larger ideas, themes, or even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difficult portions of text in order to enhance reading proficienc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lso include prompts for writing and discussion questions.</a:t>
            </a:r>
            <a:endParaRPr b="0" lang="en-US" sz="2400" spc="-1" strike="noStrike">
              <a:solidFill>
                <a:srgbClr val="262626"/>
              </a:solidFill>
              <a:latin typeface="Calibri"/>
            </a:endParaRPr>
          </a:p>
        </p:txBody>
      </p:sp>
      <p:sp>
        <p:nvSpPr>
          <p:cNvPr id="105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567F3-06FF-4FEA-890A-6BFABD7C3E2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418680"/>
            <a:ext cx="813744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ree Types of Text-Dependent Questions</a:t>
            </a:r>
            <a:endParaRPr b="1" lang="en-US" sz="2800" spc="-1" strike="noStrike">
              <a:solidFill>
                <a:srgbClr val="17375e"/>
              </a:solidFill>
              <a:latin typeface="Century Gothic"/>
            </a:endParaRPr>
          </a:p>
        </p:txBody>
      </p:sp>
      <p:sp>
        <p:nvSpPr>
          <p:cNvPr id="1053" name=""/>
          <p:cNvSpPr txBox="1"/>
          <p:nvPr/>
        </p:nvSpPr>
        <p:spPr>
          <a:xfrm>
            <a:off x="503280" y="1193760"/>
            <a:ext cx="8137440" cy="2727360"/>
          </a:xfrm>
          <a:prstGeom prst="rect">
            <a:avLst/>
          </a:prstGeom>
          <a:noFill/>
          <a:ln w="0">
            <a:noFill/>
          </a:ln>
        </p:spPr>
        <p:txBody>
          <a:bodyPr tIns="91440" bIns="91440" anchor="t">
            <a:normAutofit/>
          </a:bodyPr>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you're writing or reviewing a set of questions, consider the following three categorie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themes and central idea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knowledge of vocabulary</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syntax and structure</a:t>
            </a:r>
            <a:endParaRPr b="0" lang="en-US" sz="2400" spc="-1" strike="noStrike">
              <a:solidFill>
                <a:srgbClr val="262626"/>
              </a:solidFill>
              <a:latin typeface="Calibri"/>
            </a:endParaRPr>
          </a:p>
        </p:txBody>
      </p:sp>
      <p:sp>
        <p:nvSpPr>
          <p:cNvPr id="105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B011F-22F1-4D0F-98EF-76C9AFEF531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10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9751E-3FBA-4541-A444-7C4D65A9ECB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057"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058"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05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060"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061" name="Group 2"/>
          <p:cNvGrpSpPr/>
          <p:nvPr/>
        </p:nvGrpSpPr>
        <p:grpSpPr>
          <a:xfrm>
            <a:off x="4538520" y="1349280"/>
            <a:ext cx="549360" cy="5029560"/>
            <a:chOff x="4538520" y="1349280"/>
            <a:chExt cx="549360" cy="5029560"/>
          </a:xfrm>
        </p:grpSpPr>
        <p:cxnSp>
          <p:nvCxnSpPr>
            <p:cNvPr id="1062" name="Shape 138"/>
            <p:cNvCxnSpPr/>
            <p:nvPr/>
          </p:nvCxnSpPr>
          <p:spPr>
            <a:xfrm flipH="1">
              <a:off x="4784040" y="1349280"/>
              <a:ext cx="1080" cy="5029920"/>
            </a:xfrm>
            <a:prstGeom prst="straightConnector1">
              <a:avLst/>
            </a:prstGeom>
            <a:ln w="19080">
              <a:solidFill>
                <a:srgbClr val="0e291a"/>
              </a:solidFill>
              <a:miter/>
            </a:ln>
          </p:spPr>
        </p:cxnSp>
        <p:sp>
          <p:nvSpPr>
            <p:cNvPr id="1063"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4"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5"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66"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reating Text-Dependent Questions</a:t>
            </a:r>
            <a:endParaRPr b="1" lang="en-US" sz="2800" spc="-1" strike="noStrike">
              <a:solidFill>
                <a:srgbClr val="17375e"/>
              </a:solidFill>
              <a:latin typeface="Century Gothic"/>
            </a:endParaRPr>
          </a:p>
        </p:txBody>
      </p:sp>
      <p:sp>
        <p:nvSpPr>
          <p:cNvPr id="106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4D17A-C628-47CA-9308-963735E0E7E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graphicFrame>
        <p:nvGraphicFramePr>
          <p:cNvPr id="1069" name=""/>
          <p:cNvGraphicFramePr/>
          <p:nvPr/>
        </p:nvGraphicFramePr>
        <p:xfrm>
          <a:off x="495360" y="1219320"/>
          <a:ext cx="8153280" cy="5157720"/>
        </p:xfrm>
        <a:graphic>
          <a:graphicData uri="http://schemas.openxmlformats.org/drawingml/2006/table">
            <a:tbl>
              <a:tblPr/>
              <a:tblGrid>
                <a:gridCol w="1676520"/>
                <a:gridCol w="6476760"/>
              </a:tblGrid>
              <a:tr h="977760">
                <a:tc>
                  <a:txBody>
                    <a:bodyPr lIns="90000" rIns="90000" anchor="t">
                      <a:noAutofit/>
                    </a:bodyPr>
                    <a:p>
                      <a:pPr marL="1309680" indent="-130968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On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core understandings and key ideas of the text.</a:t>
                      </a:r>
                      <a:endParaRPr b="0" lang="en-US" sz="2400" spc="-1" strike="noStrike">
                        <a:solidFill>
                          <a:srgbClr val="000000"/>
                        </a:solidFill>
                        <a:latin typeface="Arial"/>
                      </a:endParaRPr>
                    </a:p>
                  </a:txBody>
                  <a:tcPr anchor="t" marL="90000" marR="90000">
                    <a:lnL>
                      <a:noFill/>
                    </a:lnL>
                    <a:lnR>
                      <a:noFill/>
                    </a:lnR>
                    <a:lnT>
                      <a:noFill/>
                    </a:lnT>
                    <a:lnB>
                      <a:noFill/>
                    </a:lnB>
                    <a:noFill/>
                  </a:tcPr>
                </a:tc>
              </a:tr>
              <a:tr h="6415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wo:</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art small to build confidenc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hre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arget vocabulary and text structur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our:</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ckle tough sections head-on.</a:t>
                      </a:r>
                      <a:endParaRPr b="0" lang="en-US" sz="2400" spc="-1" strike="noStrike">
                        <a:solidFill>
                          <a:srgbClr val="000000"/>
                        </a:solidFill>
                        <a:latin typeface="Arial"/>
                      </a:endParaRPr>
                    </a:p>
                  </a:txBody>
                  <a:tcPr anchor="t" marL="90000" marR="90000">
                    <a:lnL>
                      <a:noFill/>
                    </a:lnL>
                    <a:lnR>
                      <a:noFill/>
                    </a:lnR>
                    <a:lnT>
                      <a:noFill/>
                    </a:lnT>
                    <a:lnB>
                      <a:noFill/>
                    </a:lnB>
                    <a:noFill/>
                  </a:tcPr>
                </a:tc>
              </a:tr>
              <a:tr h="97956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iv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coherent sequences of text-dependent questions.</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Six:</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standards that are being addressed.</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Seven:</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the culminating assessmen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levitan-reiner</dc:creator>
  <dc:description/>
  <dc:language>en-US</dc:language>
  <cp:lastModifiedBy>Pascale Joseph</cp:lastModifiedBy>
  <dcterms:modified xsi:type="dcterms:W3CDTF">2020-01-23T20:25:33Z</dcterms:modified>
  <cp:revision>36</cp:revision>
  <dc:subject/>
  <dc:title>Text-Dependent Questions</dc:title>
</cp:coreProperties>
</file>